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701-CE95-476B-A290-2249B490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FA9-4B9F-408F-B914-2A03F41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FDA-E61A-4C98-9DE5-AF203A35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0D4-8084-4BEB-9807-40B1A8B4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AB0-8F46-44E8-97CC-2A8A2100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261-778F-4698-8DC3-126C6131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BD1-9D50-47F7-8BF4-4C427283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818-94CD-4DED-A552-DD6730BA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8D2-57B0-4D76-AB65-225ED4ED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3C6-42CD-4D6D-AFDE-214692EA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643-729B-4143-AE9F-6EFFCC5B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95C-9A87-4B93-951B-DBE218A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3E84-A918-440E-83AB-26902F17D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24000" y="132840"/>
            <a:ext cx="856908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экзамена по математик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в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классе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0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901000" cy="5745240"/>
        </p:xfrm>
        <a:graphic>
          <a:graphicData uri="http://schemas.openxmlformats.org/drawingml/2006/table">
            <a:tbl>
              <a:tblPr/>
              <a:tblGrid>
                <a:gridCol w="2555640"/>
                <a:gridCol w="1057320"/>
                <a:gridCol w="1057320"/>
                <a:gridCol w="1057320"/>
                <a:gridCol w="1058760"/>
                <a:gridCol w="1057320"/>
                <a:gridCol w="1057320"/>
              </a:tblGrid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Алгебра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000" y="981000"/>
          <a:ext cx="8905680" cy="5472360"/>
        </p:xfrm>
        <a:graphic>
          <a:graphicData uri="http://schemas.openxmlformats.org/drawingml/2006/table">
            <a:tbl>
              <a:tblPr/>
              <a:tblGrid>
                <a:gridCol w="3174840"/>
                <a:gridCol w="1146240"/>
                <a:gridCol w="1146240"/>
                <a:gridCol w="1146240"/>
                <a:gridCol w="1146240"/>
                <a:gridCol w="1145880"/>
              </a:tblGrid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3"/>
          <p:cNvSpPr/>
          <p:nvPr/>
        </p:nvSpPr>
        <p:spPr>
          <a:xfrm>
            <a:off x="0" y="260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Геометрия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24000" y="1268280"/>
          <a:ext cx="8640720" cy="5303880"/>
        </p:xfrm>
        <a:graphic>
          <a:graphicData uri="http://schemas.openxmlformats.org/drawingml/2006/table">
            <a:tbl>
              <a:tblPr/>
              <a:tblGrid>
                <a:gridCol w="490320"/>
                <a:gridCol w="6762960"/>
                <a:gridCol w="13874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дуль «Алгеб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, строить и читать графики функций,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преобразования алгебраических выражений, решать уравнения, неравенства и их системы, строить и читать графики функций, строить и исследовать простейшие математически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дуль «Геометр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ь доказательные рассуждения при решении задач, оценивать логическую правильность рассуждений, распознавать ошибочные 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действия с геометрическими фигурами, координатами и векто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86"/>
          <p:cNvSpPr/>
          <p:nvPr/>
        </p:nvSpPr>
        <p:spPr>
          <a:xfrm>
            <a:off x="539640" y="260280"/>
            <a:ext cx="82803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втор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69920" y="836640"/>
          <a:ext cx="8870760" cy="5103720"/>
        </p:xfrm>
        <a:graphic>
          <a:graphicData uri="http://schemas.openxmlformats.org/drawingml/2006/table">
            <a:tbl>
              <a:tblPr/>
              <a:tblGrid>
                <a:gridCol w="3132000"/>
                <a:gridCol w="995400"/>
                <a:gridCol w="995400"/>
                <a:gridCol w="765360"/>
                <a:gridCol w="1225440"/>
                <a:gridCol w="782640"/>
                <a:gridCol w="974520"/>
              </a:tblGrid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–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2) –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3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2)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"/>
          <p:cNvSpPr/>
          <p:nvPr/>
        </p:nvSpPr>
        <p:spPr>
          <a:xfrm>
            <a:off x="-15840" y="189000"/>
            <a:ext cx="883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второй части  по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2060640"/>
          <a:ext cx="8496000" cy="338616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3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8000" y="765000"/>
          <a:ext cx="8856720" cy="5999400"/>
        </p:xfrm>
        <a:graphic>
          <a:graphicData uri="http://schemas.openxmlformats.org/drawingml/2006/table">
            <a:tbl>
              <a:tblPr/>
              <a:tblGrid>
                <a:gridCol w="399960"/>
                <a:gridCol w="2701800"/>
                <a:gridCol w="1262160"/>
                <a:gridCol w="1123920"/>
                <a:gridCol w="1123920"/>
                <a:gridCol w="1122480"/>
                <a:gridCol w="112248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836640"/>
          <a:ext cx="8785440" cy="527364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9280" y="620640"/>
          <a:ext cx="8856720" cy="6120000"/>
        </p:xfrm>
        <a:graphic>
          <a:graphicData uri="http://schemas.openxmlformats.org/drawingml/2006/table">
            <a:tbl>
              <a:tblPr/>
              <a:tblGrid>
                <a:gridCol w="2806920"/>
                <a:gridCol w="1135080"/>
                <a:gridCol w="1285920"/>
                <a:gridCol w="1284120"/>
                <a:gridCol w="1362240"/>
                <a:gridCol w="98244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ьши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ьши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14"/>
          <p:cNvSpPr/>
          <p:nvPr/>
        </p:nvSpPr>
        <p:spPr>
          <a:xfrm>
            <a:off x="107640" y="115920"/>
            <a:ext cx="944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30040" y="981000"/>
          <a:ext cx="8680680" cy="5472360"/>
        </p:xfrm>
        <a:graphic>
          <a:graphicData uri="http://schemas.openxmlformats.org/drawingml/2006/table">
            <a:tbl>
              <a:tblPr/>
              <a:tblGrid>
                <a:gridCol w="527040"/>
                <a:gridCol w="3202200"/>
                <a:gridCol w="961920"/>
                <a:gridCol w="1655640"/>
                <a:gridCol w="23338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 +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526"/>
          <p:cNvSpPr/>
          <p:nvPr/>
        </p:nvSpPr>
        <p:spPr>
          <a:xfrm>
            <a:off x="-719640" y="188640"/>
            <a:ext cx="1058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Количество учащихся, не преодолевших порог по модул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Line 8"/>
          <p:cNvSpPr/>
          <p:nvPr/>
        </p:nvSpPr>
        <p:spPr>
          <a:xfrm flipV="1">
            <a:off x="6877080" y="1125000"/>
            <a:ext cx="0" cy="453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700360" y="14367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Мод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ль</a:t>
            </a: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lang="tt-RU" sz="2000" spc="-1" strike="noStrike">
                <a:solidFill>
                  <a:srgbClr val="ff0000"/>
                </a:solidFill>
                <a:latin typeface="Times New Roman"/>
              </a:rPr>
              <a:t>Алгебр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7020000" y="148428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093080" y="10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дуль «Геометр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108000" y="115920"/>
            <a:ext cx="88567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перв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 (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18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2021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Диаграмма 7" descr=""/>
          <p:cNvPicPr/>
          <p:nvPr/>
        </p:nvPicPr>
        <p:blipFill>
          <a:blip r:embed="rId1"/>
          <a:stretch/>
        </p:blipFill>
        <p:spPr>
          <a:xfrm>
            <a:off x="171360" y="963720"/>
            <a:ext cx="8801280" cy="5351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179280" y="0"/>
            <a:ext cx="83534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езультаты выполнения заданий перво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о Верхнеуслонскому району (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30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марта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022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1"/>
          <p:cNvSpPr/>
          <p:nvPr/>
        </p:nvSpPr>
        <p:spPr>
          <a:xfrm flipV="1">
            <a:off x="6804000" y="1267920"/>
            <a:ext cx="0" cy="468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929800" cy="4973760"/>
        </p:xfrm>
        <a:graphic>
          <a:graphicData uri="http://schemas.openxmlformats.org/drawingml/2006/table">
            <a:tbl>
              <a:tblPr/>
              <a:tblGrid>
                <a:gridCol w="2836800"/>
                <a:gridCol w="760320"/>
                <a:gridCol w="762120"/>
                <a:gridCol w="762120"/>
                <a:gridCol w="760320"/>
                <a:gridCol w="762120"/>
                <a:gridCol w="761760"/>
                <a:gridCol w="762120"/>
                <a:gridCol w="762120"/>
              </a:tblGrid>
              <a:tr h="50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597a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Модуль «Алгебра»  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о 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Нина Хайруллина</cp:lastModifiedBy>
  <dcterms:modified xsi:type="dcterms:W3CDTF">2022-04-14T16:58:57Z</dcterms:modified>
  <cp:revision>80</cp:revision>
  <dc:subject/>
  <dc:title>Слайд 1</dc:title>
</cp:coreProperties>
</file>